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34213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092-9EFA-437A-80EB-29EA386D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0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5C0-7717-4AE2-B694-EAEEC7F0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07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07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FC1-E697-4908-B61C-27100BBB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728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904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728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13F-1A05-4AAC-92D4-A46E9CF4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90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C5F-729D-4B3C-956C-364A83A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5D3-2833-4902-89DF-99567EE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F1F-6E7F-4236-A84F-4C1F889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A83-15A1-49E7-9BB5-3DA5E98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0A3-4EEC-4F3B-93FD-060C6F7E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A5E-913F-4649-AE2E-545B731F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7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74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251-DEC8-486F-B464-B708404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0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74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04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097-77DC-4868-B2A9-0FC33ED1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0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40B-F0C4-4D05-8E18-189DA16A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1619280" y="115920"/>
            <a:ext cx="72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86562"/>
                    </a:gs>
                    <a:gs pos="100000">
                      <a:srgbClr val="ff3300">
                        <a:alpha val="65098"/>
                      </a:srgbClr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moviendo la Eficiencia Energétic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d86562"/>
                  </a:gs>
                  <a:gs pos="100000">
                    <a:srgbClr val="ff3300">
                      <a:alpha val="65098"/>
                    </a:srgbClr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00" y="384120"/>
            <a:ext cx="14936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440" bIns="55440" anchor="t">
            <a:spAutoFit/>
          </a:bodyPr>
          <a:p>
            <a:pPr algn="ctr"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1" lang="es-ES" sz="600" spc="-1" strike="noStrike">
                <a:solidFill>
                  <a:srgbClr val="0000ff"/>
                </a:solidFill>
                <a:latin typeface="Arial"/>
              </a:rPr>
              <a:t>CONSEIL MONDIAL DE L’ENERG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6360" y="527040"/>
            <a:ext cx="10692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440" bIns="55440" anchor="t">
            <a:spAutoFit/>
          </a:bodyPr>
          <a:p>
            <a:pPr algn="ctr"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1" lang="es-ES" sz="600" spc="-1" strike="noStrike">
                <a:solidFill>
                  <a:srgbClr val="0000ff"/>
                </a:solidFill>
                <a:latin typeface="Arial"/>
              </a:rPr>
              <a:t>COMITÉ VENEZOLA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1160" y="243000"/>
            <a:ext cx="129024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440" bIns="55440" anchor="t">
            <a:spAutoFit/>
          </a:bodyPr>
          <a:p>
            <a:pPr algn="ctr"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1" lang="es-ES" sz="800" spc="-1" strike="noStrike">
                <a:solidFill>
                  <a:srgbClr val="0000ff"/>
                </a:solidFill>
                <a:latin typeface="Arial"/>
              </a:rPr>
              <a:t>World Energy Counc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22360" y="557280"/>
            <a:ext cx="43164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539640" y="44280"/>
            <a:ext cx="503280" cy="2700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0" y="6742080"/>
            <a:ext cx="9144000" cy="73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112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¿Se requiere una Ley para lograr la Eficiencia Energét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580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9896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Total 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64000" y="6051600"/>
            <a:ext cx="576360" cy="330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170080"/>
            <a:ext cx="76327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632720" cy="378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9079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¿Es suficiente el suministro de información a los consumidores y establecer reglas y normas de fabricación y construcción para que el mercado por sí solo logre la Eficiencia Energétic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19640" y="6039000"/>
            <a:ext cx="476280" cy="34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86200" y="59896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Total 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7848720" cy="415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112536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¿Se requieren Incentivos económicos ofrecidos por el gobierno a los agente económicos para el logro de la Eficiencia Energétic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6200" y="59896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Total 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6041880"/>
            <a:ext cx="47340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459560" cy="395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¿Es suficiente establecer una estructura racional de precios y tarifas para que el mercado logre la Eficiencia Energétic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59896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Total Resp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78600" y="6039000"/>
            <a:ext cx="4730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3:52:26Z</dcterms:created>
  <dc:creator>mleon</dc:creator>
  <dc:description/>
  <dc:language>en-US</dc:language>
  <cp:lastModifiedBy>mleon</cp:lastModifiedBy>
  <dcterms:modified xsi:type="dcterms:W3CDTF">2002-10-08T12:46:54Z</dcterms:modified>
  <cp:revision>2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84019723</vt:r8>
  </property>
  <property fmtid="{D5CDD505-2E9C-101B-9397-08002B2CF9AE}" pid="3" name="_AuthorEmail">
    <vt:lpwstr>mleon@edelca.com.ve</vt:lpwstr>
  </property>
  <property fmtid="{D5CDD505-2E9C-101B-9397-08002B2CF9AE}" pid="4" name="_AuthorEmailDisplayName">
    <vt:lpwstr>Merenciano Leon</vt:lpwstr>
  </property>
  <property fmtid="{D5CDD505-2E9C-101B-9397-08002B2CF9AE}" pid="5" name="_EmailEntryID">
    <vt:lpwstr>00000000A64951922008D111BD6700805FD44603070091E29023B3ECD011BD6000805FD4460300000004D5AE0000CF957B1EDED6254C9E1727F8472D3BD60000002312AC0000</vt:lpwstr>
  </property>
  <property fmtid="{D5CDD505-2E9C-101B-9397-08002B2CF9AE}" pid="6" name="_EmailStoreID">
    <vt:lpwstr>0000000038A1BB1005E5101AA1BB08002B2A56C20000454D534D44422E444C4C00000000000000001B55FA20AA6611CD9BC800AA002FC45A0C000000475552493237002F6F3D4564656C63612F6F753D436172616361732F636E3D526563697069656E74732F636E3D6D6C6F70657A00</vt:lpwstr>
  </property>
  <property fmtid="{D5CDD505-2E9C-101B-9397-08002B2CF9AE}" pid="7" name="_EmailSubject">
    <vt:lpwstr>PRESENTACIÓN FORO 2002</vt:lpwstr>
  </property>
  <property fmtid="{D5CDD505-2E9C-101B-9397-08002B2CF9AE}" pid="8" name="_ReviewCycleID">
    <vt:r8>462733970</vt:r8>
  </property>
</Properties>
</file>